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D02-CD64-4F7B-8DE2-EF7A0FA6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5AF-CDED-4E99-8F1B-9DD816B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F09-4789-4665-A24C-67D67138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65A-7B04-4721-B4FC-363F3A69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D26-AE2E-43E9-896C-AA94C12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F74-02E8-4A35-8728-20CE442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B57-60FF-4587-A4E9-DD4291A4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41C-8927-48C9-8C3A-02256F9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94F-4A65-410D-AAF8-891F331B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C4F-0F03-42E0-AFC1-8AD7CE3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120-43BA-4AE1-98E1-8CE9933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F53-4F4A-45CF-8DAC-1AA1673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6DF4-EFFA-409B-AC83-8DB3BB4AF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ge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done over break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r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ing to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thing uncertain and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senberg “principle of uncertain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vival of Christia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ity on the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stress human nature’s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moral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weitz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 for Historical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rkegaard-reject fundament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rth-humans are imperfect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hol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el and Ma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hope and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rs focus on irrational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am of consciousnes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l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cob’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k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Joy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ly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utopia, reject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gler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cline of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S Eli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f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uis H. Sull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loyd W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1 Walter Gropius and the Bau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vies and 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 of the elite, these for the m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90s France: peep shows and arc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leads movi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ford, Sennett, Keystone K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s Germany “bizarre expressionis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“talkies” allow Europe to catch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coni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 Major events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sets up 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3/4 all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aganda and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cted to emotional 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urn their backs on typical music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vinsky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ite of Spr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ism-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daism-attacked all accepted behaviors of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realism-wild dreams and complex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asso, 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ailles creates a shaky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hates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fearful and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undepen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turns its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e disrupted, debts h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 what ways did new and disturbing ideas in philosophy, physics, psychology, and literature reflect the general crisis in Western thou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How did modernism revolutionize architecture, painting, and mus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How did the emerging consumer society and mass culture of the interwar years change the everyday lives of ordinary men and w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B and France don’t a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wants harshness of treaty en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wants trade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Consequences of the Pe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looking for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1 pact with Poland, associated with Little Entente against 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 East a source of tensions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921 price set at 132 billion gold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5 billion per year or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1 payment made but not 19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nuary 1923 Poincare orders occupation of Ru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s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seals entire Rhine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 printed and social revolution takes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-class Germans are the ones hurt (Harv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gust 1923 Gustav Stresemann takes ove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Foreign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wes Plan 1924: US to Germany to GB/France; back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x payment $625 million, minimum $25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5 “Spirit of Locarn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6 Germany joins Le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8 Kellogg-Briand 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9 Young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3 Communist and National Socialist Coups Attempts thw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rate businessmen realize parliamentary government can lead to prospe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 still a split with nationalists, monarchists,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Germany does not go the way of 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sa Luxemburg and Karl Liebknecht radical socialist arrested and shot before their revolution can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rman Socialist Democrats end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cial Democrats offering democracy and social liberties gradual elimination of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 Counter-Revolutionary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) Hertling and von Ba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e taker government, make some reforms constitutional monarchy uses SP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) Ebert-Groener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bert under siege, calls Groener replaced Ludendorff in army, Asks for help, don’t break up army and I will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use Friek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) Stinnes-Legien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esult: Weimar Re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munists vs socialists for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alition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lation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% unemployment in ‘2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bour Party comes to power led by Ramsey MacDona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2 Full autonomy for Catholic Irel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happen, but none worse then ‘29-’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investment (farms) vs. spe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e confidence,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l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31 Largest Bank in Austria 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ld Production dr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wn 3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goes off gold standard, create higher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slide a resul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conomic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How did the democratic leaders of the 1920s deal with deep-seated instability and try to establish real peace and prospe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caused the Great Depression, and how did the Western democracies respond to the challe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ss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bad, but US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e spirit, dignity, postpone marri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andinavian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Democrats the large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s, and democracy thr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very and Reform in GB and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1932 Conservative led coal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not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tical turm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cists, Communists, Socialists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Front and Leon Blum May 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ne by June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t World War I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 1914: Progress, reason, optimism, social rights increas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80s: reject optimism, reject faith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udience until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ery: “Doubt and disorder are in us and with u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Crisis of 20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ilosophy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etzs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 since Athens there has been too much emphasis on r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ifled passion and in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, democracy, progress all suffocating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hope is to accept meaningless 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gson-immediate experienc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rel-elite should control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gical Empir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jects cornerstone of traditional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is study of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istent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ists, true voice of Age of Anx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tre-humans jus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Heidegger and Karl Jas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illusioned students follow their i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ert C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gmund Fre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one con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 behavior is ir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ed sex key to mental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1800s Physics one sign of h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based on fact an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hanging natural laws determine th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ies-radium omits subatomic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k-qu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s into question distinction between matter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7:13:22Z</dcterms:created>
  <dc:creator>ahs</dc:creator>
  <dc:description/>
  <dc:language>en-US</dc:language>
  <cp:lastModifiedBy>admin</cp:lastModifiedBy>
  <dcterms:modified xsi:type="dcterms:W3CDTF">2013-04-12T12:42:27Z</dcterms:modified>
  <cp:revision>43</cp:revision>
  <dc:subject/>
  <dc:title>The Age of Anxiety</dc:title>
</cp:coreProperties>
</file>